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057-FE98-4AF9-BAB3-48281F8D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48C-678A-499B-812D-027B76E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E5D-A607-43CC-A4F3-D6CE3A83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223-096F-440D-95EB-B7A40C9F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E8B-51C3-46E9-AB26-0CB39BC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72B7-A752-4AFC-85AA-2E0EC10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93D0-A9A1-47B1-A620-C0BBB60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953B-A567-4F00-B696-7B7A94BF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BD3F-7660-4DD5-A6F5-E456B13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B0B-01FB-4432-BB7B-0C4839A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231-3156-4198-9CD1-1130705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6DC-13A7-425C-995D-3CEA00B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BA58-C529-491F-97FF-41C5556C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933-43A2-407E-A139-315B1E4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36C4-58EE-4787-982F-563E482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D1AD-93C6-49B9-9B0B-4DFBF7FF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3A73-2CFA-4016-B156-79AC2DB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C56-9F53-48D4-AF7C-060D481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20C-EB3A-4370-962A-FB96CD2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0BB-F494-465C-8093-B30BBC31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306-5480-4C4C-A418-560B2484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AA-C223-450B-8E44-7A595BD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E33-DE25-4511-8B36-781817C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4E0-334F-4F55-B665-9C370E9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248-406D-4D9B-8707-754F6DCA45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27FD-355F-481A-9E76-85B460B90F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im: How did Gladiator’s entertain the Romans?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33Gladiator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Now:  Why do you think Gladiators were entertaining to the Roma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olosse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otic animals hunts, gladiatorial combat, executions, brutal plays, battle recreations and possibly naval battles with alligators entertained the crow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ristians martyred still deb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as a social valve to control popu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naumachia"/>
          <p:cNvPicPr/>
          <p:nvPr/>
        </p:nvPicPr>
        <p:blipFill>
          <a:blip r:embed="rId1"/>
          <a:stretch/>
        </p:blipFill>
        <p:spPr>
          <a:xfrm>
            <a:off x="4686480" y="1752480"/>
            <a:ext cx="396216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lion%2520and%2520christians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495288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Gladiator’s Lif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myth is that gladiators were only sl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were but they were criminals, debtors and those condemned to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ed according to one’s physical attributes or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6" descr="Ad%2520Bestias%25202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89124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Gladia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coliseum gladiators fought fir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rned about survival and wha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ist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do if you do not perform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condemned are killed, animals hunted and criminal f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diators fight again in late day but it is to the death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taormina171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95800"/>
          </a:xfrm>
          <a:prstGeom prst="rect">
            <a:avLst/>
          </a:prstGeom>
          <a:ln w="3816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Gladia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ated gladiators could appeal for mercy but it was at the whim of the crow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did not always come at the hands of one’s oppon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dressed as Roman gods would kill the loser in a variety of ways to add to the sensationalism of the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mbs down did not mean death. It meant to spare the gladiator and a thumb up meant to kill h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birthd4"/>
          <p:cNvPicPr/>
          <p:nvPr/>
        </p:nvPicPr>
        <p:blipFill>
          <a:blip r:embed="rId1"/>
          <a:stretch/>
        </p:blipFill>
        <p:spPr>
          <a:xfrm>
            <a:off x="5029200" y="1828800"/>
            <a:ext cx="358128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Jean-Leon_Gerome_Pollice_Verso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56236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ircus Maxim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utdoor arena that seated 200,000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chariot r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iot teams had fans who followed and cheered for their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by emperors to appease the poor with free bread and ad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circus_maximus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ircus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990720"/>
            <a:ext cx="7924680" cy="5135400"/>
          </a:xfrm>
          <a:prstGeom prst="rect">
            <a:avLst/>
          </a:prstGeom>
          <a:ln w="3816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ircus Maxim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eror Nero raced several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essed no skill but people adored h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 behavior became irratio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camels instead of hor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night 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an killing those who beat h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ed himself champion at every r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2" descr="circus"/>
          <p:cNvPicPr/>
          <p:nvPr/>
        </p:nvPicPr>
        <p:blipFill>
          <a:blip r:embed="rId1"/>
          <a:stretch/>
        </p:blipFill>
        <p:spPr>
          <a:xfrm>
            <a:off x="4648320" y="1828800"/>
            <a:ext cx="4267080" cy="373392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olosseum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t by Emperor Vespasian and Titus 70-80 A.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ted 45,000, had two large restroom areas, covered area, numbered seating based on class, and had supporting facilities near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est games were 123 days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2" descr="Colosse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828800"/>
            <a:ext cx="4038480" cy="426708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5:45:47Z</dcterms:created>
  <dc:creator>Corpus Christi</dc:creator>
  <dc:description/>
  <dc:language>en-US</dc:language>
  <cp:lastModifiedBy>NYCDOE</cp:lastModifiedBy>
  <dcterms:modified xsi:type="dcterms:W3CDTF">2012-11-15T16:36:49Z</dcterms:modified>
  <cp:revision>16</cp:revision>
  <dc:subject/>
  <dc:title>The Roman Gladiators</dc:title>
</cp:coreProperties>
</file>